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wind.wav" ContentType="audio/x-wav"/>
  <Override PartName="/ppt/media/image13.gif" ContentType="image/gif"/>
  <Override PartName="/ppt/media/image8.png" ContentType="image/png"/>
  <Override PartName="/ppt/media/image7.png" ContentType="image/png"/>
  <Override PartName="/ppt/media/image1.jpeg" ContentType="image/jpeg"/>
  <Override PartName="/ppt/media/arrow.wav" ContentType="audio/x-wav"/>
  <Override PartName="/ppt/media/image12.gif" ContentType="image/gif"/>
  <Override PartName="/ppt/media/image11.png" ContentType="image/png"/>
  <Override PartName="/ppt/media/camera.wav" ContentType="audio/x-wav"/>
  <Override PartName="/ppt/media/image6.png" ContentType="image/png"/>
  <Override PartName="/ppt/media/image10.gif" ContentType="image/gif"/>
  <Override PartName="/ppt/media/image9.png" ContentType="image/png"/>
  <Override PartName="/ppt/media/suction.wav" ContentType="audio/x-wav"/>
  <Override PartName="/ppt/media/image2.png" ContentType="image/png"/>
  <Override PartName="/ppt/media/image5.wmf" ContentType="image/x-wmf"/>
  <Override PartName="/ppt/media/breeze.wav" ContentType="audio/x-wav"/>
  <Override PartName="/ppt/media/image3.png" ContentType="image/png"/>
  <Override PartName="/ppt/media/laser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336-64D7-4941-A382-23592E44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1D1-490E-4A76-B539-A3A603F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444-C3FE-4779-AC30-61C506B3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6DB-804D-4C0F-A98B-B684458C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226-8A7B-4E1A-8589-26A36C3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D99-56FB-40B8-AAD2-3030967A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24A-2582-4394-86E4-674C0EEB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FC1-50E1-484D-816E-4716F7C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ACA-51EE-44D0-80FA-5B9DE270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6FC-72E8-45CF-B1F6-F55F9EEA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D08-1EBE-4941-B728-7EBAD29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F1C-ADD2-4EB1-A622-4ECABCA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12C-06C1-4A55-BC08-B214D9608B22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hyperlink" Target="http://www.cooks.com/rec/search?q=peanut+butter+and+jelly" TargetMode="External"/><Relationship Id="rId4" Type="http://schemas.openxmlformats.org/officeDocument/2006/relationships/hyperlink" Target="http://www.cooks.com/rec/search?q=peanut+butter+and+jelly" TargetMode="External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274680" y="1042920"/>
            <a:ext cx="8856720" cy="2365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Gourmet Recip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ra Davor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comb dir="vert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unchy peanut butt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memade strawberry j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wo slices of white brea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l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dissolve/>
    <p:sndAc>
      <p:stSnd>
        <p:snd r:embed="rId2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091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nif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poon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lat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Glas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" name="Picture 2" descr="C:\Program Files\Microsoft Office\Media\CntCD1\ClipArt3\j0233355.wmf"/>
          <p:cNvPicPr/>
          <p:nvPr/>
        </p:nvPicPr>
        <p:blipFill>
          <a:blip r:embed="rId2"/>
          <a:stretch/>
        </p:blipFill>
        <p:spPr>
          <a:xfrm>
            <a:off x="5105520" y="2133720"/>
            <a:ext cx="21272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pen jars of peanut butter and ja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read peanut butter on one slice of bread with a knif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 a spoon to get jam and spread it on the other slice of brea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t two slices together and cut the sandwich in hal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t the sandwich on a plat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ur a glass of milk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jo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pull dir="ru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100 children and adults were surveyed to find out what goes best with peanut butter.  33 selected grape jelly, 11 honey, , 46 strawberry jam, and 10 sliced banana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Content Placeholder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lunch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rthday par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cn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isit from persnickety grandchildr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te night snac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ol gathering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2" descr="C:\Program Files\Microsoft Office\Media\CntCD1\Animated\j0236450.gif"/>
          <p:cNvPicPr/>
          <p:nvPr/>
        </p:nvPicPr>
        <p:blipFill>
          <a:blip r:embed="rId2"/>
          <a:stretch/>
        </p:blipFill>
        <p:spPr>
          <a:xfrm>
            <a:off x="5562720" y="1752480"/>
            <a:ext cx="12189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719280"/>
            <a:ext cx="6870960" cy="950760"/>
          </a:xfrm>
          <a:prstGeom prst="rect">
            <a:avLst/>
          </a:prstGeom>
          <a:ln w="0">
            <a:noFill/>
          </a:ln>
        </p:spPr>
      </p:pic>
      <p:sp>
        <p:nvSpPr>
          <p:cNvPr id="57" name="Cloud Callout 2"/>
          <p:cNvSpPr/>
          <p:nvPr/>
        </p:nvSpPr>
        <p:spPr>
          <a:xfrm>
            <a:off x="2590920" y="1676520"/>
            <a:ext cx="2971800" cy="1676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Book Antiqua"/>
              </a:rPr>
              <a:t>Wow!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2" descr="C:\Program Files\Microsoft Office\Media\CntCD1\Animated\j0178108.gif"/>
          <p:cNvPicPr/>
          <p:nvPr/>
        </p:nvPicPr>
        <p:blipFill>
          <a:blip r:embed="rId2"/>
          <a:stretch/>
        </p:blipFill>
        <p:spPr>
          <a:xfrm>
            <a:off x="2133720" y="3200400"/>
            <a:ext cx="2367000" cy="267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>
            <a:hlinkClick r:id="rId3"/>
          </p:cNvPr>
          <p:cNvSpPr/>
          <p:nvPr/>
        </p:nvSpPr>
        <p:spPr>
          <a:xfrm>
            <a:off x="5943600" y="41911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Recip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cut thruBlk="true"/>
    <p:sndAc>
      <p:stSnd>
        <p:snd r:embed="rId5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666880" y="990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Welcom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1" name="Picture 4" descr="C:\Program Files\Microsoft Office\Media\CntCD1\Animated\j0283211.gif"/>
          <p:cNvPicPr/>
          <p:nvPr/>
        </p:nvPicPr>
        <p:blipFill>
          <a:blip r:embed="rId1"/>
          <a:stretch/>
        </p:blipFill>
        <p:spPr>
          <a:xfrm>
            <a:off x="2819520" y="3124080"/>
            <a:ext cx="26762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2:37:04Z</dcterms:created>
  <dc:creator>labuser</dc:creator>
  <dc:description/>
  <dc:language>en-US</dc:language>
  <cp:lastModifiedBy>labuser</cp:lastModifiedBy>
  <dcterms:modified xsi:type="dcterms:W3CDTF">2008-07-09T13:54:21Z</dcterms:modified>
  <cp:revision>13</cp:revision>
  <dc:subject/>
  <dc:title>How to Make a Great Peanut Butter and Jelly Sandwich</dc:title>
</cp:coreProperties>
</file>